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0AA-3F9A-499D-B121-DCC1EBEF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B5F-9FA8-4A6B-BA7B-46EF543E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D66-72F4-4FA0-AE93-F6505EA1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93D-19A4-466D-9371-465A933F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467-B2B0-41C6-A44C-6FF319C2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DD7-A6A3-4860-9CC2-D32E448B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073-68DB-4446-84BF-911D70F3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A92-005D-419F-9165-3DAECC8D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7F0-73AF-4C5A-9925-9FD53102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B9F-185D-4AF7-8B17-537480DD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E5E-BCF4-4ED4-97C1-F3FE84C5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6C1-60AB-485A-939B-CACB8E73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0D39-5413-4DA2-84FB-2CED81429D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ICT Assessment – Key stage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CT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14/12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"/>
              </a:rPr>
              <a:t>Level 5 exchanging and sharing in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20835" t="21669" r="28126" b="17499"/>
          <a:stretch/>
        </p:blipFill>
        <p:spPr>
          <a:xfrm>
            <a:off x="357120" y="808200"/>
            <a:ext cx="8358120" cy="580212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5"/>
          <p:cNvCxnSpPr/>
          <p:nvPr/>
        </p:nvCxnSpPr>
        <p:spPr>
          <a:xfrm flipH="1">
            <a:off x="642240" y="1856880"/>
            <a:ext cx="7866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6"/>
          <p:cNvSpPr/>
          <p:nvPr/>
        </p:nvSpPr>
        <p:spPr>
          <a:xfrm>
            <a:off x="571680" y="714240"/>
            <a:ext cx="1643040" cy="1159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formation has been selected for a purpose, a variety of info and media has been us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8"/>
          <p:cNvCxnSpPr/>
          <p:nvPr/>
        </p:nvCxnSpPr>
        <p:spPr>
          <a:xfrm flipH="1">
            <a:off x="6214680" y="642960"/>
            <a:ext cx="121536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11"/>
          <p:cNvCxnSpPr/>
          <p:nvPr/>
        </p:nvCxnSpPr>
        <p:spPr>
          <a:xfrm>
            <a:off x="1499040" y="1856880"/>
            <a:ext cx="857880" cy="135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xtBox 12"/>
          <p:cNvSpPr/>
          <p:nvPr/>
        </p:nvSpPr>
        <p:spPr>
          <a:xfrm>
            <a:off x="6715080" y="714240"/>
            <a:ext cx="242892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esentations are fit for a  specific purpose and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Straight Arrow Connector 14"/>
          <p:cNvCxnSpPr/>
          <p:nvPr/>
        </p:nvCxnSpPr>
        <p:spPr>
          <a:xfrm>
            <a:off x="2213640" y="1928520"/>
            <a:ext cx="1572120" cy="314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erlin Sans FB"/>
              </a:rPr>
              <a:t>L5 Modell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20835" t="14169" r="3123" b="24999"/>
          <a:stretch/>
        </p:blipFill>
        <p:spPr>
          <a:xfrm>
            <a:off x="142920" y="857160"/>
            <a:ext cx="4714920" cy="573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rcRect l="20312" t="14169" r="2604" b="5833"/>
          <a:stretch/>
        </p:blipFill>
        <p:spPr>
          <a:xfrm>
            <a:off x="4857840" y="1500120"/>
            <a:ext cx="4143240" cy="5072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6572160" y="285840"/>
            <a:ext cx="214308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sked planned to suit purpose and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0" y="142920"/>
            <a:ext cx="292896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 created own model and investigated the effects of changing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7786800" y="4214880"/>
            <a:ext cx="1143000" cy="1739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 is also some reflection within the piece of 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vel 6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557360"/>
            <a:ext cx="820872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Pupils plan their tasks in detail for specific purposes and audien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They use ICT to create and refine their work using information from a range of sources, recognising the need for different styles for different audien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They use ICT to check accuracy and plausibility by comparing information from different sources, making choices to meet the needs of a specific purpose or audie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They use databases to follow complex lines of enquiry and draw conclus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They use models or simulations of increasing complexity, vary the rules within them and test hypothe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Pupils have opinions about issues raised by the use of ICT and know the dangers associated with misuse of the internet/related techn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ext Placeholder 2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064120" cy="379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2920" y="333360"/>
            <a:ext cx="72741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  <a:ea typeface="Arial"/>
              </a:rPr>
              <a:t>Level 6 Exampl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1300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197000"/>
            <a:ext cx="1513080" cy="15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upils plan their tasks in detail for specific purposes and audiences (a planning sheet could be used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1197000"/>
            <a:ext cx="1657080" cy="2012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y use ICT to create and refine their work using information from a range of sources, recognising the need for different styles for different audienc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437000"/>
            <a:ext cx="1368360" cy="1554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upils make choices to suit a specific audience and purpo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43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How work is levelled in IC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Most pieces of ICT work in cross curricular subjects will have certain characteristics of a particular level in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Pupils work in ICT should now show planning, developing and reflecting in order to reach higher lev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The POS also specifies that internet safety is taught to pupils (we do this through discreet ICT lesson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Level 3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Pupils begin to organise their tasks and use ICT to create, organise, amend and present information and ide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They find information from a range of given sources and use ICT to search, sort and/or graph data to follow simple lines of enquir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Pupils understand how changing one variable affects another in models or simulation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They store and retrieve work independentl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Pupils send and receive information electronically, with suppor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Berlin Sans FB"/>
              </a:rPr>
              <a:t>They understand the use of a range of input and output devic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Level 3 – Exchanging and sharing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20835" t="13333" r="42709" b="5833"/>
          <a:stretch/>
        </p:blipFill>
        <p:spPr>
          <a:xfrm>
            <a:off x="2428920" y="1000080"/>
            <a:ext cx="4227480" cy="5857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42920" y="1571760"/>
            <a:ext cx="1857240" cy="1067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CT  is used to create and present information and idea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929280" y="1214280"/>
            <a:ext cx="1571760" cy="1739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mited information has been found from a range of sour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Straight Arrow Connector 8"/>
          <p:cNvCxnSpPr/>
          <p:nvPr/>
        </p:nvCxnSpPr>
        <p:spPr>
          <a:xfrm flipH="1">
            <a:off x="6143400" y="1714680"/>
            <a:ext cx="78624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erlin Sans FB"/>
              </a:rPr>
              <a:t>Level 3 – finding out inform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19793" t="16667" r="48438" b="12502"/>
          <a:stretch/>
        </p:blipFill>
        <p:spPr>
          <a:xfrm>
            <a:off x="2286000" y="785880"/>
            <a:ext cx="4357800" cy="6072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6786720" y="1071720"/>
            <a:ext cx="1785960" cy="1739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s have used ICT to create, organise, amend and present information and id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14200" y="2286000"/>
            <a:ext cx="2214720" cy="228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y find information from a range of given sources and use ICT to search, sort and/or graph data to follow simple lines of enquiry.  i.e. search eng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Level 4 characteris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Pupils broadly plan their tasks and combine a variety of information and media when creating and developing their ideas, with a sense of purpose and audie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They use ICT to select relevant information from a range of given sources, recognising that poor quality information and data yields unreliable resul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Pupils begin to check the validity of data. They add and amend records in databas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They use ICT to explore patterns and relationships. They make simple predictions about how changing one variable affects another in models or simulation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They send and receive information electronical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Pupils discuss and begin to form opinions about some of the issues raised by the use of ICT and internet safet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They use the internet/related technologies safely in accordance with given guideli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Pupils manage their workspace effective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"/>
              </a:rPr>
              <a:t>They show an awareness of the basic functions of hardware and software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"/>
              </a:rPr>
              <a:t>Level 4 – finding things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21877" t="14169" r="41667" b="8332"/>
          <a:stretch/>
        </p:blipFill>
        <p:spPr>
          <a:xfrm>
            <a:off x="2038320" y="928800"/>
            <a:ext cx="4462560" cy="592920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5"/>
          <p:cNvCxnSpPr/>
          <p:nvPr/>
        </p:nvCxnSpPr>
        <p:spPr>
          <a:xfrm flipV="1">
            <a:off x="6213960" y="1285200"/>
            <a:ext cx="78660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TextBox 6"/>
          <p:cNvSpPr/>
          <p:nvPr/>
        </p:nvSpPr>
        <p:spPr>
          <a:xfrm>
            <a:off x="7000920" y="928800"/>
            <a:ext cx="2143080" cy="119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 has combined a variety of info and media in developing their id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9"/>
          <p:cNvCxnSpPr/>
          <p:nvPr/>
        </p:nvCxnSpPr>
        <p:spPr>
          <a:xfrm flipH="1">
            <a:off x="6000120" y="1356840"/>
            <a:ext cx="1143720" cy="1715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10"/>
          <p:cNvSpPr/>
          <p:nvPr/>
        </p:nvSpPr>
        <p:spPr>
          <a:xfrm>
            <a:off x="214200" y="1357200"/>
            <a:ext cx="171468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 is a sense of audience and purpo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6786720" y="4000680"/>
            <a:ext cx="2000160" cy="1465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 has shown an awareness of the basic functions of the software they decided to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erlin Sans FB"/>
              </a:rPr>
              <a:t>Level 4 - Model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19793" t="19166" r="28126" b="19166"/>
          <a:stretch/>
        </p:blipFill>
        <p:spPr>
          <a:xfrm>
            <a:off x="857160" y="785880"/>
            <a:ext cx="7358040" cy="5857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6572160" y="1071720"/>
            <a:ext cx="2000520" cy="2284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upil used ICT to explore patterns and relationships. They make simple predictions about how changing one variable affects another in models or simula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286680" y="3929040"/>
            <a:ext cx="2500200" cy="1159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ey use ICT to select relevant information from a range of given sources, recognising that poor quality information and data yields unreliable resul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erlin Sans FB"/>
              </a:rPr>
              <a:t>Level 5 Characteris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Pupils plan their tasks for purpose and audience. They combine a variety of information and media when creating, refining and developing their own ideas and inform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Their presentations are fit for purpose and meet the needs of their intended audie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They search for and select information from a range of sources, considering relevance, plausibility and accurac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Pupils create their own databases and search or sort on more than one field to follow particular lines of enqui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They create their own models or simulations and investigate the effect of changing d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They use ICT to send and receive files electronical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Pupils form opinions about issues raised by the use of ICT and are aware of dangers associated with misuse of the internet/related technolog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They recognise the implications of using networ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3:39:42Z</dcterms:created>
  <dc:creator>Janine</dc:creator>
  <dc:description/>
  <dc:language>en-US</dc:language>
  <cp:lastModifiedBy>jhawkins</cp:lastModifiedBy>
  <dcterms:modified xsi:type="dcterms:W3CDTF">2009-12-14T14:55:18Z</dcterms:modified>
  <cp:revision>39</cp:revision>
  <dc:subject/>
  <dc:title>ICT Assessment</dc:title>
</cp:coreProperties>
</file>